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4B0-7949-4299-8008-348141F1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DBB-A35D-4491-97A8-FE6D71D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F43-21CE-4BF3-BC93-7DD578BC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AE6-5302-4FC3-AC80-1E7883E6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3EC3-7457-43CD-9A4C-54D94091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517-1102-4BE9-BC50-7CE94151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4EDF-02DD-401B-A59E-E21B7B97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F9BB-0015-4642-B9B3-E4F184F8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0747-655E-4081-8AAA-0764401C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835B-CFDF-466A-B7D0-7C30C5AD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9579-0EA9-4A12-A625-B0236D56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89D-2C00-4CE1-B064-5B64755F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A034-EEDA-4276-AE3C-8F430B8E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49DC-A714-4F6D-907C-A1CB65D1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8BAB-D854-48B1-83F6-5C7AEFE1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9B03-4B9D-492C-B460-7D578BC8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AFA0-1CC6-4809-A08D-E7A49E99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8B6-6D8E-4FDF-87AF-F4A5E91F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34D-346F-4E15-BEBE-E170EBF8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45D-3BE1-4DD4-B922-6DA47BD1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D0F-77B4-4278-8BBC-146541E6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42F-42A9-4002-A8D7-DC1C5736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1EA-E052-443B-9249-97B9970C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F27-2778-45CB-B52F-D16062A7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E61863-94C2-48F5-937A-8261063C8C85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813F04-5DE8-44E6-82D5-177462FDB729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9600" spc="-1" strike="noStrike">
                <a:solidFill>
                  <a:srgbClr val="10243e"/>
                </a:solidFill>
                <a:latin typeface="Calibri"/>
              </a:rPr>
              <a:t>KIJIJ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Canada’s #1 Free Online Classifie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3200040" cy="37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thinking.jpg"/>
          <p:cNvPicPr/>
          <p:nvPr/>
        </p:nvPicPr>
        <p:blipFill>
          <a:blip r:embed="rId1"/>
          <a:stretch/>
        </p:blipFill>
        <p:spPr>
          <a:xfrm>
            <a:off x="4267080" y="2362320"/>
            <a:ext cx="4420440" cy="28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809520" cy="37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hat is Kijij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ast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urpose and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ommunity.jpg"/>
          <p:cNvPicPr/>
          <p:nvPr/>
        </p:nvPicPr>
        <p:blipFill>
          <a:blip r:embed="rId1"/>
          <a:stretch/>
        </p:blipFill>
        <p:spPr>
          <a:xfrm>
            <a:off x="4495680" y="224784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495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st of memb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eedom of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rg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id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User frien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No Cost.jpg"/>
          <p:cNvPicPr/>
          <p:nvPr/>
        </p:nvPicPr>
        <p:blipFill>
          <a:blip r:embed="rId1"/>
          <a:stretch/>
        </p:blipFill>
        <p:spPr>
          <a:xfrm>
            <a:off x="914400" y="2590920"/>
            <a:ext cx="260388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ck of personal interaction between administrator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alse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au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CreditCardFraud.jpg"/>
          <p:cNvPicPr/>
          <p:nvPr/>
        </p:nvPicPr>
        <p:blipFill>
          <a:blip r:embed="rId1"/>
          <a:stretch/>
        </p:blipFill>
        <p:spPr>
          <a:xfrm>
            <a:off x="4800600" y="3581280"/>
            <a:ext cx="3501000" cy="26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Verification off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Encourage different paymen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Other safety t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bbq.jpg"/>
          <p:cNvPicPr/>
          <p:nvPr/>
        </p:nvPicPr>
        <p:blipFill>
          <a:blip r:embed="rId1"/>
          <a:stretch/>
        </p:blipFill>
        <p:spPr>
          <a:xfrm>
            <a:off x="5791320" y="1621080"/>
            <a:ext cx="2504160" cy="226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Reason for exis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iverse selection of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mprom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ollow safety ti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nvenience outweighs th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balance-scale.jpg"/>
          <p:cNvPicPr/>
          <p:nvPr/>
        </p:nvPicPr>
        <p:blipFill>
          <a:blip r:embed="rId1"/>
          <a:stretch/>
        </p:blipFill>
        <p:spPr>
          <a:xfrm>
            <a:off x="6705720" y="2133720"/>
            <a:ext cx="1828440" cy="12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133720" y="2514600"/>
            <a:ext cx="518112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21"/>
              </a:spcBef>
              <a:buNone/>
              <a:tabLst>
                <a:tab algn="l" pos="0"/>
              </a:tabLst>
            </a:pPr>
            <a:r>
              <a:rPr b="0" lang="en-CA" sz="8600" spc="-1" strike="noStrike">
                <a:solidFill>
                  <a:srgbClr val="d9d9d9"/>
                </a:solidFill>
                <a:latin typeface="Calibri"/>
              </a:rPr>
              <a:t>Thank You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  <Words>88</Words>
  <Paragraphs>42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43:03Z</dcterms:created>
  <dc:creator>Brett</dc:creator>
  <dc:description/>
  <dc:language>en-US</dc:language>
  <cp:lastModifiedBy>Michelle Mah</cp:lastModifiedBy>
  <dcterms:modified xsi:type="dcterms:W3CDTF">2008-11-26T22:07:39Z</dcterms:modified>
  <cp:revision>12</cp:revision>
  <dc:subject/>
  <dc:title>KIJI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